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EBD8-ED8A-4B8A-9454-EF959A2A2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D0FC-6B23-4AF8-84ED-5558A9A12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166B-1309-4CF5-B7B8-D86E32213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D250-DE46-4BB1-BDE3-5E49D2B1E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CFDA-482E-448C-866A-6AD62278B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F257-4BA1-4FAA-A1F4-9D7A126DD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8ED5-76C1-402E-9558-8DB588E70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B384-123B-41FF-86F0-568111075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5CC4-903A-4B1B-A552-6849EC86E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FC4E-6F0D-4751-A22C-FA1781194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B799-FF72-49D7-92E2-5814F785D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B620-12D9-4D91-A1DA-888133394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4DAE5-3B27-4D09-8D24-A193A3165E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PbUtL_0vAJk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r_2cwhJndKY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 Have a Dream” Speech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iel Chung, Morgan Smith, &amp; Ryan Chr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ed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mbolically, the speech was presented on the steps of the Lincoln Memo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ech broadcasted to millions of listeners across the nation and the world via radio and tele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jor Ideas of Spee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e need to end segregation and discrimination against African American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not a temporary movement; we will persist until we receive equal rights and justic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inued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must be accomplished in a nonviolent mann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e must continue to work to establish brotherhood in all parts of the natio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ugust 28, 1963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mlkfreeatlast" descr=""/>
          <p:cNvPicPr/>
          <p:nvPr/>
        </p:nvPicPr>
        <p:blipFill>
          <a:blip r:embed="rId1"/>
          <a:stretch/>
        </p:blipFill>
        <p:spPr>
          <a:xfrm>
            <a:off x="-990720" y="-22320"/>
            <a:ext cx="10820520" cy="68803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29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mlkihaveadreamgogo" descr=""/>
          <p:cNvPicPr/>
          <p:nvPr/>
        </p:nvPicPr>
        <p:blipFill>
          <a:blip r:embed="rId1"/>
          <a:stretch/>
        </p:blipFill>
        <p:spPr>
          <a:xfrm>
            <a:off x="0" y="-4114800"/>
            <a:ext cx="9137520" cy="135255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peak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Martin Luther King J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Prominent Civil Rights activist and preac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urpo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Despite the 13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, 14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, and 15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Amendments and the victory in the Brown vs. Board of Education trial, many Negros were prevented from voting and segregation was still strong in many parts of the countr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urpo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June 11, 1963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President Kennedy proposed a new bill to Congress which would provide Negros with "the kind of equality of treatment which we would want for ourselves."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uthern representatives in Congress blocked the bill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urpo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hilip Randolph, a labor leader and longtime civil rights activist, called for a massive march on Washington to dramatize the issu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udi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50,000 followers gathered on the Washington Mall to listen to speeches.  About 1/5  of those who came were whit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rtin Luther King’s speech was the highlight of the protes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5T02:23:22Z</dcterms:created>
  <dc:creator>Robert Christ</dc:creator>
  <dc:description/>
  <dc:language>en-US</dc:language>
  <cp:lastModifiedBy>NATASCHA A. LEAK</cp:lastModifiedBy>
  <dcterms:modified xsi:type="dcterms:W3CDTF">2008-04-16T01:22:24Z</dcterms:modified>
  <cp:revision>11</cp:revision>
  <dc:subject/>
  <dc:title>Slide 1</dc:title>
</cp:coreProperties>
</file>